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199-F69C-498B-9DC9-8DD2EBC2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F1D-3176-4A2E-A0FA-7B00E6A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F7A-6872-4CAD-8835-C5CA5B62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001-8BF6-481F-B327-2B9F59D6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082A-59CF-4F99-91BD-39430F5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3167-C77D-48BB-9F5E-71AEC92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426A-6DDE-40E0-B33F-DD1B813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C86-96C7-409D-9D15-50E4464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CBC2-A8B6-4A70-9F6A-DB492607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544-90C6-4EEA-AB15-8FE742E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3C1A-839D-445A-ADBD-67A1151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0B9-74F7-4DB0-AE35-DE48F872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3C11-7F23-44B0-A08A-8C4D421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0CE5-4CC9-462E-9447-EF29464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1B7A-2659-44CC-BEFF-D591DCE9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BE81-96A9-4C07-A861-88618E35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0A7-F184-4632-AAAB-D98A9524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8EF-2BF5-4E9E-B080-47064ED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50E-AD61-4202-8E30-87AD9E4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D72-043F-487F-8B46-5B9B5D67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116-2268-4736-BFBB-3A4043D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A0A-7BF0-4EA7-A97E-64D53DA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182-509F-4AFA-B217-9FD1889F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EFE-69A1-44B0-8D18-A925F98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D25F-529E-4AAB-A6D6-C5F0BC941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E5ED-2080-483B-963E-EA2A7A35C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hyperlink" Target="http://www.google.ro/imgres?imgurl=http://www.clopotel.ro/enciclopedia/resources/File/vulturica.jpg&amp;imgrefurl=http://www.clopotel.ro/enciclopedia/Ecologia_animalelor_Ecologia_pasarilor-456.html&amp;usg=__DLMMt6I1fzJYKqrxymtdfNM3HHA=&amp;h=160&amp;w=240&amp;sz=8&amp;hl=ro&amp;start=5&amp;sig2=5Z_RSQJ5kueKrilJDJUlVQ&amp;zoom=1&amp;itbs=1&amp;tbnid=hBVmiVpfzHl1uM:&amp;tbnh=73&amp;tbnw=110&amp;prev=/images%3Fq%3Drapitoare%2Bde%2Bzi%26hl%3Dro%26gbv%3D2%26ndsp%3D20%26tbm%3Disch&amp;ei=qRSeTcXWFsvAswbVpMCqBA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rezentare pentru identificarea nevoilor elevilo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a A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2120" y="5877000"/>
            <a:ext cx="35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f. Nicola A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iceul Teoretic Alexandru Vlah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508720" y="3357720"/>
            <a:ext cx="180000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3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1.Ce stiu despre pasari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animale verteb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superioare reptil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plaseaza prin z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t diverse,ocupand medii diferite de vi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inmultesc prin oua pe care le cloc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7960" cy="164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1295640" cy="87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225800" cy="877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129564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2.Ce vreau sa stiu?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Care sunt grupele de pasari?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52320" y="2937960"/>
            <a:ext cx="6924600" cy="31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1452600" cy="180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413000"/>
            <a:ext cx="1728720" cy="431640"/>
          </a:xfrm>
          <a:prstGeom prst="wedgeRoundRectCallout">
            <a:avLst>
              <a:gd name="adj1" fmla="val 76171"/>
              <a:gd name="adj2" fmla="val 25220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urmat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141720"/>
            <a:ext cx="1655640" cy="431640"/>
          </a:xfrm>
          <a:prstGeom prst="wedgeRoundRectCallout">
            <a:avLst>
              <a:gd name="adj1" fmla="val 79240"/>
              <a:gd name="adj2" fmla="val 219486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t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11280" y="3213000"/>
            <a:ext cx="1513080" cy="187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5157720"/>
            <a:ext cx="1728720" cy="432000"/>
          </a:xfrm>
          <a:prstGeom prst="wedgeRoundRectCallout">
            <a:avLst>
              <a:gd name="adj1" fmla="val 62763"/>
              <a:gd name="adj2" fmla="val 177203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v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195640" y="5157720"/>
            <a:ext cx="1728720" cy="138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16360" y="1341360"/>
            <a:ext cx="1656000" cy="432000"/>
          </a:xfrm>
          <a:prstGeom prst="wedgeRoundRectCallout">
            <a:avLst>
              <a:gd name="adj1" fmla="val 69652"/>
              <a:gd name="adj2" fmla="val 289337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ioro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732720" y="1484280"/>
            <a:ext cx="191772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7640" y="4797360"/>
            <a:ext cx="1871640" cy="863640"/>
          </a:xfrm>
          <a:prstGeom prst="wedgeRoundRectCallout">
            <a:avLst>
              <a:gd name="adj1" fmla="val 78245"/>
              <a:gd name="adj2" fmla="val 8786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toare de noap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877080" y="4869000"/>
            <a:ext cx="1584360" cy="168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3213000"/>
            <a:ext cx="2016000" cy="1336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27640" y="3068640"/>
            <a:ext cx="1871640" cy="504720"/>
          </a:xfrm>
          <a:prstGeom prst="wedgeRoundRectCallout">
            <a:avLst>
              <a:gd name="adj1" fmla="val 68490"/>
              <a:gd name="adj2" fmla="val 197171"/>
              <a:gd name="adj3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toare de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83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2" h="21600">
                <a:moveTo>
                  <a:pt x="13696" y="14281"/>
                </a:moveTo>
                <a:lnTo>
                  <a:pt x="13696" y="12323"/>
                </a:lnTo>
                <a:cubicBezTo>
                  <a:pt x="13696" y="11496"/>
                  <a:pt x="14027" y="10800"/>
                  <a:pt x="14628" y="10800"/>
                </a:cubicBezTo>
                <a:cubicBezTo>
                  <a:pt x="15759" y="10800"/>
                  <a:pt x="16656" y="9434"/>
                  <a:pt x="16656" y="7849"/>
                </a:cubicBezTo>
                <a:cubicBezTo>
                  <a:pt x="16656" y="5534"/>
                  <a:pt x="14802" y="3794"/>
                  <a:pt x="12591" y="3794"/>
                </a:cubicBezTo>
                <a:cubicBezTo>
                  <a:pt x="10380" y="3794"/>
                  <a:pt x="8709" y="5534"/>
                  <a:pt x="8709" y="7849"/>
                </a:cubicBezTo>
                <a:lnTo>
                  <a:pt x="10563" y="7849"/>
                </a:lnTo>
                <a:cubicBezTo>
                  <a:pt x="10563" y="6709"/>
                  <a:pt x="11486" y="5821"/>
                  <a:pt x="12591" y="5821"/>
                </a:cubicBezTo>
                <a:cubicBezTo>
                  <a:pt x="13696" y="5821"/>
                  <a:pt x="14628" y="6709"/>
                  <a:pt x="14628" y="7849"/>
                </a:cubicBezTo>
                <a:cubicBezTo>
                  <a:pt x="14628" y="8589"/>
                  <a:pt x="14158" y="9320"/>
                  <a:pt x="13696" y="9320"/>
                </a:cubicBezTo>
                <a:cubicBezTo>
                  <a:pt x="12591" y="9320"/>
                  <a:pt x="11486" y="10800"/>
                  <a:pt x="11486" y="12323"/>
                </a:cubicBezTo>
                <a:lnTo>
                  <a:pt x="11486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96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2.Ce vreau sa stiu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264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ce pot zbura pasari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importanta au rapitoarele in relatiile trofice din        ecosiste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ce au pasarile febra fara a fi bolna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specii de pasari sunt pe cale de disparit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84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349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500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437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1" h="21600">
                <a:moveTo>
                  <a:pt x="13686" y="14281"/>
                </a:moveTo>
                <a:lnTo>
                  <a:pt x="13686" y="12323"/>
                </a:lnTo>
                <a:cubicBezTo>
                  <a:pt x="13686" y="11496"/>
                  <a:pt x="14017" y="10800"/>
                  <a:pt x="14617" y="10800"/>
                </a:cubicBezTo>
                <a:cubicBezTo>
                  <a:pt x="15749" y="10800"/>
                  <a:pt x="16645" y="9434"/>
                  <a:pt x="16645" y="7849"/>
                </a:cubicBezTo>
                <a:cubicBezTo>
                  <a:pt x="16645" y="5534"/>
                  <a:pt x="14791" y="3794"/>
                  <a:pt x="12581" y="3794"/>
                </a:cubicBezTo>
                <a:cubicBezTo>
                  <a:pt x="10370" y="3794"/>
                  <a:pt x="8699" y="5534"/>
                  <a:pt x="8699" y="7849"/>
                </a:cubicBezTo>
                <a:lnTo>
                  <a:pt x="10553" y="7849"/>
                </a:lnTo>
                <a:cubicBezTo>
                  <a:pt x="10553" y="6709"/>
                  <a:pt x="11475" y="5821"/>
                  <a:pt x="12581" y="5821"/>
                </a:cubicBezTo>
                <a:cubicBezTo>
                  <a:pt x="13686" y="5821"/>
                  <a:pt x="14617" y="6709"/>
                  <a:pt x="14617" y="7849"/>
                </a:cubicBezTo>
                <a:cubicBezTo>
                  <a:pt x="14617" y="8589"/>
                  <a:pt x="14147" y="9320"/>
                  <a:pt x="13686" y="9320"/>
                </a:cubicBezTo>
                <a:cubicBezTo>
                  <a:pt x="12581" y="9320"/>
                  <a:pt x="11475" y="10800"/>
                  <a:pt x="11475" y="12323"/>
                </a:cubicBezTo>
                <a:lnTo>
                  <a:pt x="11475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ecff"/>
                </a:solidFill>
                <a:latin typeface="Arial Black"/>
              </a:rPr>
              <a:t>3.Ce am invatat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2961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acterele de superioritate ale pasarilor fata de rept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sange c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inima tetracamer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plamani performa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 instincte ( construiesc cuiburi, clocesc oua, ingrijesc pu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arile nu hiberneaza, fapt pentru care migre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u dimorfism sexual pronun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arile rapitoare sunt folositoare, interesante si inteli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9:08:19Z</dcterms:created>
  <dc:creator>Aura Nicola</dc:creator>
  <dc:description/>
  <dc:language>en-US</dc:language>
  <cp:lastModifiedBy>Aura Nicola</cp:lastModifiedBy>
  <dcterms:modified xsi:type="dcterms:W3CDTF">2011-04-08T04:38:04Z</dcterms:modified>
  <cp:revision>28</cp:revision>
  <dc:subject/>
  <dc:title>Slide 1</dc:title>
</cp:coreProperties>
</file>